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B67-614B-4CAC-822A-55669D68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F54-BF21-4123-82AD-D495B952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63C1-57D4-4FAA-B3ED-CC53C406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98D-61D5-412D-905C-3F205089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4320-7E81-4E25-A460-55ECAFD3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FA2-AD68-49A9-9A96-B4327535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265-6A8C-440D-8505-BDFB8AF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598-0C8D-40DC-8BB7-288AE3CE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EE-0EFB-4550-BC1A-DD19E1CF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9BA-9124-4752-8B04-173D13B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C7B-04EF-4DD8-B34A-D027EAF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87E-21BF-460A-B22B-1FF9F09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590-B481-40EB-814B-94F0B59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7A2-FBF8-444F-A2FA-5B815184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714-0D56-4149-AD60-4FF474A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DD5-C5CA-42B7-95F5-1D75D16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ADD-3F92-4C7C-A32C-A6D084C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8683-E024-46D7-9D8A-7ECAB800710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orc.jaxa.jp/ALOS/en/guide/forestmap_oct2010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rest Policy, Strategies and Laws of Ethiopia: Opportunities and Challenges to Developing the Secto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laku Bekele (WGCF-NR, Wondo Gene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btemariam Kassa (CIFOR, Addis Abab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at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Dialog On Sustainable Agricultural Intensification in Ethiopia and its role on the climate resilient green economy initiative in Ethiop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3-24 July 2012, Addis Abab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Relevant Policy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urrent Forest Policy and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has not been able to harness the expected economic, social, and environmental benefits from the forest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orestation and forest degradation deteriorate forest resources and increasingly undermine forest benefits the country could 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utilization and development of forests is critical for continued economic development and to combating natural resources degra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forestry development requires active community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jor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meet public demand in forest and forest produ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socio-economic and environmental contribution of fore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 focal areas of th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stering private forest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and extend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ing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ministration and management of state for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st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 data base on forest conservation, development and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 each of the policy focus areas, specific strategies have been indicated. E.g. under the first one (fostering private forest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land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x incentives (until first harvest) – tax reduction for agroforestry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der the required professional and technical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ate productive forest areas within state fo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sure access to planting materials at fair pr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access to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arantee ownership of any land with developed forest (including in state fores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2. The Forest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onstitu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icle 44 and 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citizens have the right to live in a clean and healthy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and citizens have the duty to protect th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 aspects of the Forest Proclamation (No. 542/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d the previous forest procl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d key terms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ee, forest, forest land, state forest, private forest, local commun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d types of forest ownership –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vate and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t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t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ke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forest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ligation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vate forest develo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Key aspects of the Forest Proclamation (contd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ation, demarcation and registra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te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ervation, development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dministration of state fore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State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dministration of protected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T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duction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vement of forest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hib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est guards and inspection of forest products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ligations to notify and incen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 and duties of the Mini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 and duties of Regional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Key aspects of the Forest Proclamation (contd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 4 (Con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est Products movement perm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edy t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peals and sav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ssuance of laws, regulations and dir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gul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y the Council of Ministers (Yet to be enac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iv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by the Ministry (yet to be iss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 COMPREHENSIVE DIRECTIVES TO IMPLEMENT POLICY AND PROCLAMATION ON THE GROUND EVEN FIVE YEARS AFTER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3. Other relevant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ther relevant proclamations –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vestment, EIA, Rural Land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and Admin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15 multilateral agreements (CBC, CCD, UNFCCC, CITES, 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FAPs (national and regiona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onservation Strate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nvironment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ral development policies and strateg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nergy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National Policy on Bio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Wildlife Policy and A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FYDPs – 2001-05, 2006-2010 (PASDEP), 2011-2015 (GT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LM framework – a 15-year program frame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RGE Strategy (2012-202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+  Experiences to build on – MERET, PFM, Area Ex-clos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4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 that need to be ra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policy statements and legal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good sectoral plans/programs to buil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estions to raise inclu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olicies and strategies being implemented and tested on the ground to monitor policy outcom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extension agents getting the relevant info they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we connect the dots (regarding tress and forests) in various plans and programs? And who should do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other sectors (e.g. agriculture, energy, road, ..) done enough to support the forestry sector so that its contribution enhances their own achievements (e.g. hydropower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opportunities created by the current massive land rehabilitation and tree planting and by the CRGE be ceas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Challenges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regarding forest cover and its change remain scanty and wildly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official but vague definition, views differ in what forest is and therefore the figures being used about the fores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e of deforestation being widely used is an old and less representative fi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information on forest degradation and affore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ial statistics hardly capture smallholder pla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S based data indicate that generally trees inside forests are declining while tress outside forests are increa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mallholder tree planting is expan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294920"/>
            <a:ext cx="7192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3300"/>
                </a:solidFill>
                <a:latin typeface="Calibri"/>
              </a:rPr>
              <a:t>Land use change within a 141,976 hectare forest area,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Calibri"/>
              </a:rPr>
              <a:t>1976-2010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(Guillozet and Bliss, 2011)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283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fao.org/forestry/foris/img/maps/forcov/fc60.gif"/>
          <p:cNvPicPr/>
          <p:nvPr/>
        </p:nvPicPr>
        <p:blipFill>
          <a:blip r:embed="rId1"/>
          <a:stretch/>
        </p:blipFill>
        <p:spPr>
          <a:xfrm>
            <a:off x="828720" y="0"/>
            <a:ext cx="5114880" cy="511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http://www.fao.org/forestry/foris/img/maps/forcov/legend_en.gif"/>
          <p:cNvPicPr/>
          <p:nvPr/>
        </p:nvPicPr>
        <p:blipFill>
          <a:blip r:embed="rId2"/>
          <a:stretch/>
        </p:blipFill>
        <p:spPr>
          <a:xfrm>
            <a:off x="6324480" y="2590920"/>
            <a:ext cx="2819520" cy="1550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04920" y="54234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 Resources and Types of Ethiopi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FRA 2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 Policy – a historic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Policy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forest policy and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rest law – its key asp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levant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that need to be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t and wood land cover of Ethiopia 2009 (Winberg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7485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1048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st and wood land cover of Ethiopia 2009 (Winberg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3104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417600" y="452448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Global distribution of trees (percentage tree s in forests green) and on farm (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Composite of FAO’s 2005 Global Forest Resources Assessment and data from the World Agrofore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entre. Zomer, R.J. et al. 2009. Trees on farm: analysis of global extent and geographical patterns o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roforestry. ICRAF Working Paper No 89. World Agroforestry Centre, Nairob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ource:  http://www.eorc.jaxa.jp/ALOS/en/guide/forestmap_oct2010.htm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ed May 9, 201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Fig.3-2: Forest/Non-forest map in a typical tropical area (the enlarged images of Africa)"/>
          <p:cNvPicPr/>
          <p:nvPr/>
        </p:nvPicPr>
        <p:blipFill>
          <a:blip r:embed="rId2"/>
          <a:stretch/>
        </p:blipFill>
        <p:spPr>
          <a:xfrm>
            <a:off x="1752480" y="457200"/>
            <a:ext cx="45054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5714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ove Ground Biomass,  based on global biomass map of Baccini, 2012 (CIFOR, 2012 un published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thio_biomass2.jpg"/>
          <p:cNvPicPr/>
          <p:nvPr/>
        </p:nvPicPr>
        <p:blipFill>
          <a:blip r:embed="rId1"/>
          <a:stretch/>
        </p:blipFill>
        <p:spPr>
          <a:xfrm>
            <a:off x="380880" y="228600"/>
            <a:ext cx="7620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adequate atten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planners to the sector mainly due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ervaluation of the total economic value of fores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2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 failu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bsence, distorted or weak markets for forest services); methodological challenges to in assigning monetary values to forest functions (biodiversity, watershed values, C sequestration, etc.); existence of externalities; conflicting demands/uses by different stakeholders, limited willingness to pay for environmental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direct investment by the State in large scale fore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outlook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 virtue in untamed nature, still lingers among policy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makers not getting the right information on the short and long term costs and benefits of land use chang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ng term costs of deforestation are hardly accounted f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ilures in forest property rights </a:t>
            </a:r>
            <a:r>
              <a:rPr b="1" i="1" lang="en-US" sz="2100" spc="-1" strike="noStrike">
                <a:solidFill>
                  <a:srgbClr val="7e0018"/>
                </a:solidFill>
                <a:latin typeface="Calibri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re property rights are not well defined, an owner cannot expect to enjoy the benefits from long term investment as tree planting.  This applies for communal lands in particular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4) Lack of capable and resourced institutions/ bureaucra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implementing relevant forestry policies and strategies on the ground, monitoring outcomes  of policy interventions and providing feedback for the policy cy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5)  Under developed research in forest valuation and marke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6) Weak link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tween forestry institutions among themselves (research, education and extension) and with policy makers, NGOs and the private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7) The land rush, land to “investor” -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how best to manage this and its implication to forests – for better economic and conservation outcome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entralized governance of natural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ing demand (domestic and internation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undant labor and land as well as favorable climatic conditions for commercial fores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ined human resource in forestry &amp; N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avy investment in infrastructure (e.g. dams, railways, highways) that require protection fo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vernment commitment and mass mobilization in land rehabilitation and tree planting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d registration &amp; certification improved tenure security that strengthens farmers engagement in forestry development and sustainable land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1320" y="380520"/>
            <a:ext cx="85042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f there is any chance for forestry development in Ethiopia (taking the current supportive policies, government’s preference) it would mainly be with the community &amp; individual households, including the unemployed youth &amp;  the disadvantaged 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est stand with its owner  at Munessa (2010)         Individual woodlot on highly  degraded land i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North Shewa (200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72880" indent="-272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0440" y="3733920"/>
            <a:ext cx="3962520" cy="264132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Description: Description: F:\Degraded.TIF"/>
          <p:cNvPicPr/>
          <p:nvPr/>
        </p:nvPicPr>
        <p:blipFill>
          <a:blip r:embed="rId2"/>
          <a:stretch/>
        </p:blipFill>
        <p:spPr>
          <a:xfrm>
            <a:off x="4648320" y="3733920"/>
            <a:ext cx="44384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portunities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ment of forest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engagement of NGOs (REST, ORDA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cognition of the role of trees and forests for climate change mitigation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ge potential for contributing to and benefit from other sectors (energy, agriculture, infrastructure…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experiences are building up (area ex-closures MERET, SLM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FM is given priority and the Govt is committed to scaling up good practices and lessons learnt from pilot PF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naging ecological integrity is key to sustaining produc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thiopia’s real GDP projected to grow by &gt; 8% p.a. for the coming 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will significantly increase the national demand for wood and wood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national wood and wood products import bill is rising sharply from about 15 million USD in 1995 to over 120 million in 20110/1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mass still covers 95% of the national household energy demand (FDRE, 2011). In 2009, national fuelwood deficiency was estimated at 65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milli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&amp;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gap between supply and demand wid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y 2030 fuelwood demand is estimated to be between 120 and 140 million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eting fuelwood demand by then would require having a min of 6-7 million ha of land under plantations (Zeleke et al, 200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Zones where PFM is being implemented (Winberg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295280" y="341280"/>
            <a:ext cx="61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rtuniti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e CRGE strategy identified forestry  as one of its four pill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ng and re-establishing forests for their economic and ecosystem services including as carbon stock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ne of the four pillars of the CRGE, Page 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to be undertaken include : “afforestation (2 million ha), reforestation (1 million ha), and forest management (2 million ha of forests and 2 million ha of woodlands) to increase carbon sequestration in forests and woodlands.” (CRGE Document, page 25 and page 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ro forestry is also set to play major role in improving soil fertility and livestock feed availability, and in meeting household and market demands, and also in improving provi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7110"/>
                </a:solidFill>
                <a:latin typeface="Calibri"/>
              </a:rPr>
              <a:t>Agroforestry</a:t>
            </a: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5" descr="DSC00197"/>
          <p:cNvPicPr/>
          <p:nvPr/>
        </p:nvPicPr>
        <p:blipFill>
          <a:blip r:embed="rId1"/>
          <a:stretch/>
        </p:blipFill>
        <p:spPr>
          <a:xfrm>
            <a:off x="3809880" y="133200"/>
            <a:ext cx="5029200" cy="377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icture 024"/>
          <p:cNvPicPr/>
          <p:nvPr/>
        </p:nvPicPr>
        <p:blipFill>
          <a:blip r:embed="rId2"/>
          <a:stretch/>
        </p:blipFill>
        <p:spPr>
          <a:xfrm>
            <a:off x="152280" y="337176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good initiatives going on but poorly linked and coordinated to maximize efficiency/synergy an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the forestry sector requires mu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 than promoting tree planting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ies  or issuing relevant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stry development best serves society when it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ntered around smallhol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experience of north Europe shows and when its ecological services are recognized and valu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policy and legal framewor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plans and programs provide good basis for developing th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r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ge gap in policy imple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ng policy to practice needs to be supported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d and accountable institu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ordinate and lead the development of the forestry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ticians and technicians need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 strong support to community and private forest/woodlots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uthorities need to come out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ore refined community (forest) righ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protect them from elite grab &amp; muddling of  the bureaucracy, &amp; to promote participation of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dvocacy groups and researchers need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arn to appreciate and support what is being done and work within the confines of the legal framewor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while 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obbying  for more space and more  refined regulations and stronger instit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ducation &amp; research institutions need to be proactive &amp; responsive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ir dealings in forestry be prepared to learn from and also to provide relevant  technical support  to the public extension system and to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ble and more efficient organizations and teams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e required to coordinate national efforts and to effectively handle international negotiations /agreements and to mobilz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-managed &amp; co-owned national data b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s needed to track changes in forest resources and to compose experiences, facts &amp; figures for policy revision, research and education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blishing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gular discussion foru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“wise men” of the land will certainly to reflect on past experiences (in Ethiopia and elsewhere) and on policies and their implementation so as to inform forestry development in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 THANK YOU ALL FOR YOUR ATTENTION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jected population and fuelwood demand (2010-201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"/>
          <p:cNvPicPr/>
          <p:nvPr/>
        </p:nvPicPr>
        <p:blipFill>
          <a:blip r:embed="rId1"/>
          <a:stretch/>
        </p:blipFill>
        <p:spPr>
          <a:xfrm>
            <a:off x="536400" y="1292400"/>
            <a:ext cx="82234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rea (Ha) of plantation required to meet projected annual deman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536400" y="1292400"/>
            <a:ext cx="822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68544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3300"/>
                </a:solidFill>
                <a:latin typeface="Areal black"/>
              </a:rPr>
              <a:t>Remnant of NF under “sieg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eal blac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93600" y="1219320"/>
            <a:ext cx="7039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pulation pressure and large scale investment are fueling major land use changes in forests and wood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urrent development path will result in the clearance of some 9 million ha of land for agriculture between 2010 and 2030 (FDRE,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 the other han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stry education, research  and development activities are expa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have abundant labor &amp; land, and favorable climatic conditions for forestr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t the country is wood deficit, both at national and household levels, and as consequences deforestation and import bills are increasing unab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 what are the challenges and under exploited opportunit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do the forest policy, strategies, and laws and other major documents say about the sect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Forest policy in a historic perspecti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 policy is a process; it is always in the making.  It has  a historic &amp; future dimension. But in our case, it seems that we come back to “square one”. Example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a) Italians initiated extensive forestry program (1936-41);  but forgotten after liber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b) The Imperial government :  Allowed state, private, and communal ownership of forests; but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tensive deforestation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agricultural expansion continu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c) The military government (till 1991) : assumed all forestry development responsibilities, and was engaged in major plantations and in forest protection. But the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te maintained ownership that discouraged effective community &amp; individual participation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in fores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d) From mid 1990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uge institutional and organizational vacuum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was created as the state moved away from forestry, (though in some regional states concerted efforts are being made to address this challenge – e.g. Oromia and Amhara and some NGOs notably REST in Tigray and ORDA in Amhara are actively involved in forest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ry development in Ethiopia has remained highly dependent on the following major factors (Melaku, 2008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 Land tenure (land ownership): All tenure (entitlements) on land and natural resources emanate from the legal necessity of state own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overnment priority: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ority has been for food production, but agricultural productivity remains still 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ry needs land “not needed” for agricultur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Improvement in agricultural productivity reduces deforestation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ell managed forests better support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itutional and policy volatility : Major changes in political orientation and frequent institutional changes did not allow the evolution of mature forest poli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3 contrasting systems in the last fifty years alone!  Difficult to digest/quickly harmonize local level institutions and create sense of continuity for farm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cy failure and institutional instability have since long undermined tree planting decisions of Ethiopian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30:08Z</dcterms:created>
  <dc:creator>user</dc:creator>
  <dc:description/>
  <dc:language>en-US</dc:language>
  <cp:lastModifiedBy>HKassa</cp:lastModifiedBy>
  <cp:lastPrinted>2012-07-23T05:40:45Z</cp:lastPrinted>
  <dcterms:modified xsi:type="dcterms:W3CDTF">2012-07-23T05:47:21Z</dcterms:modified>
  <cp:revision>597</cp:revision>
  <dc:subject/>
  <dc:title>ORRENTATION :  on ecbp Curricula &amp; Its Demand   for Implementation</dc:title>
</cp:coreProperties>
</file>